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8.jpeg" ContentType="image/jpeg"/>
  <Override PartName="/ppt/media/image12.png" ContentType="image/png"/>
  <Override PartName="/ppt/media/image2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3.wmf" ContentType="image/x-wmf"/>
  <Override PartName="/ppt/media/image18.jpeg" ContentType="image/jpeg"/>
  <Override PartName="/ppt/media/image21.gif" ContentType="image/gif"/>
  <Override PartName="/ppt/media/image19.gif" ContentType="image/gif"/>
  <Override PartName="/ppt/media/image3.jpeg" ContentType="image/jpeg"/>
  <Override PartName="/ppt/media/image15.png" ContentType="image/png"/>
  <Override PartName="/ppt/media/image2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0.png" ContentType="image/png"/>
  <Override PartName="/ppt/media/image27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C42-9C31-4DB6-A96B-7B6B5640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D04-D7EA-483F-AB3E-735AA293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FC3-EFF0-4E6D-A5E0-51B2A55C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490-4685-4FE5-B582-BD5CAEFB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2C1D-89EF-4F5D-8EFC-9C8EA3CE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0078-8F08-42FD-B8A0-B2115E1B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C1EE-5BDE-4E20-8030-6549C3F8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85BE-46C1-4169-861C-53D5D731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144-61B5-4899-9E08-8FE256FE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3B00-A716-4E67-B0DD-DD9432B6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48D2-A29B-47B5-A6F9-80C60545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653-B328-484C-909B-3C16810F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F447-D541-4B02-9EF0-F0286F2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66DB-F1A6-40D9-9B80-BCCA7FB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5531-BE8B-4DBC-9CC4-A1118E9C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BE7C-DEF1-42C2-8C1E-91E17615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0710-B71F-4B23-905B-925E102C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16CD7-7BFA-4A4B-8F99-841F0CE6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C6D71-FD6B-4CBA-B510-9E489F5A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050E6-276D-4703-A0BA-C6220B7B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F88C8-3823-4DBE-889C-1DA36B6D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C4273-1C2A-402A-9B98-9D37F1C9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492-C83B-4F9D-A978-033EE9DE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45290-94EF-4830-AA3E-D73DA9BA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0C0D0-2AD5-4C96-B9C1-5EF1776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AA2CF-D763-4EFD-A8AD-D006E8CB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08F56-711A-42A8-878F-6053A88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34BDC-55C7-4A52-BEA2-E7D8C734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A9037-18F5-4373-B282-3F03228A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AB562-0E01-4407-BE1E-82308A61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86B9-6EE1-437B-AFFE-4109EA95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11091-0E50-47FA-A05E-C4BC2C15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FDA7D-BCA1-4903-8169-7117A93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88B-0BED-44C2-8B5A-FD628862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FFD6C-13E1-46C2-B89A-1F0A0917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7A8A4-75D6-4A50-B2FF-04FE87C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FC57-AB50-41BD-A675-B969C31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8E46-16A9-4A2C-ADF4-2A25425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3811A-D3CC-40A7-B6C3-9DB4DDB0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0E60-EC3A-466C-B15F-3F527E2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68F37-4070-444E-AC78-CCD6C8B2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9804D-4F0E-400B-8AB0-C882B583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5BBC-1563-44E9-A93F-79CCE151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D612-2AC2-4B1A-8C38-7B4FA0A0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4C5-481D-4BE9-A527-427412B9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5CD5-0A53-4E0A-BC09-5237E2A0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C05DA-8F1A-4D7D-B549-CC2863F2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968E9-EE54-46C4-9A40-795F5169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623A-A3B3-406D-AA99-9938CCED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79752-B7F0-4342-90C0-8D18FF7E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912F-C334-4235-AE51-28D5F25E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6B820-C9CA-47F7-9452-B6CEE5F3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25D63-574B-4929-B08D-114D3F7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5EF29-3085-4DDD-9813-2693F7A6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820B1-696F-463C-9D08-477C85BC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58A-5C06-4319-82A3-9B0FEFD2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E224-E3DD-4F3C-8F5F-728DDD20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C416-717F-4E5D-81CE-C3437A0F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A85A6-1415-461B-85FE-A0630E4A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896E-7A9B-4999-BEC8-17DFD884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B897B-DD1B-4460-ACAB-AF80C1D6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83C2-B093-4B8C-AA92-AFC4D490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E7D62-A103-45F6-B03E-A51B738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B8257-1571-421D-8883-14C1A75E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08E6A-61BC-4DA7-81F8-B2268C22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1ED44-1061-47C0-B0FB-B99D3909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0E5-567E-452F-8525-B4D3D67D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FB7BD-55BB-45E6-BAE3-A3235E58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875AA-4017-43C8-A2E2-51EEBBCB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D74E0-D5B5-4C0F-8B16-B6AED770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5592E-F06D-4A86-AFA0-0A88EC4D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D4EEA-FFB4-4723-A9FC-702AB015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E02DA-09A9-4CEC-B473-0B4B02A9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7DD0-64D5-4519-81DE-5CAB3CBA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1058D-2D4D-4486-A9DD-89D662D3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9D55B-3E03-4759-AA7F-F015034B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167C-4D86-4268-A76B-5866CD4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18C-E696-48B3-A5B0-EFFD512D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A7F43-B333-4787-B461-7DF884E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FE436-4513-4CCC-9ED5-81E78155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D5882-B318-43A5-A102-0C93AE7A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5868E-1FA4-4533-9111-C3C1B36D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400F1-791A-4AEC-A733-30A0C2D8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2AF-80CB-419A-B392-44B93541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A29E-824F-4401-84F5-4E6583E58A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C269-16EF-45BD-B39A-ED7556C56BB5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BD24-499E-4E40-9C85-150A968C55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مستطيل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28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190E-AE39-46D3-B1BC-FEAB1BCA07B2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3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18C6-8F6C-482C-84FA-646B5ECB63F8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D17E-39A6-4802-9C2A-96455A3DE2B2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0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A55E-AF3D-4AE8-91BE-1D103D058E78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images.google.com.eg/imgres?imgurl=http://pcs.fares.net/images2/usa7.gif&amp;imgrefurl=http://ecards.fares.net/ar/Around_The_World/United_States/&amp;h=300&amp;w=290&amp;sz=61&amp;hl=en&amp;start=4&amp;tbnid=B3ySLAyzyYRTZM:&amp;tbnh=111&amp;tbnw=107&amp;prev=/images%3Fq%3D%25D8%25A7%25D9%2584%25D9%2588%25D9%2584%25D8%25A7%25D9%258A%25D8%25A7%25D8%25AA%2B%25D8%25A7%25D9%2584%25D9%2585%25D8%25AA%25D8%25AD%25D8%25AF%25D8%25A9%26svnum%3D10%26hl%3Den%26lr%3D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om.eg/imgres?imgurl=http://www.aljazeera.net/mritems/images/2001/1/15/image_map320_6.jpg&amp;imgrefurl=http://www.aljazeera.net/in-depth/iraq_countdown/2002/7/7-30-13.htm&amp;h=250&amp;w=350&amp;sz=29&amp;hl=en&amp;start=3&amp;tbnid=mmTGnl7WLSEsDM:&amp;tbnh=82&amp;tbnw=116&amp;prev=/images%3Fq%3D%25D8%25A7%25D9%2584%25D9%2588%25D9%2584%25D8%25A7%25D9%258A%25D8%25A7%25D8%25AA%2B%25D8%25A7%25D9%2584%25D9%2585%25D8%25AA%25D8%25AD%25D8%25AF%25D8%25A9%26svnum%3D10%26hl%3Den%26lr%3D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2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ac66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j0168448"/>
          <p:cNvPicPr/>
          <p:nvPr/>
        </p:nvPicPr>
        <p:blipFill>
          <a:blip r:embed="rId1"/>
          <a:stretch/>
        </p:blipFill>
        <p:spPr>
          <a:xfrm>
            <a:off x="0" y="404640"/>
            <a:ext cx="3059280" cy="1944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usa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2920" y="3521160"/>
            <a:ext cx="2521080" cy="3336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image_map320_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76280"/>
            <a:ext cx="4103640" cy="287964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4" descr=""/>
          <p:cNvPicPr/>
          <p:nvPr/>
        </p:nvPicPr>
        <p:blipFill>
          <a:blip r:embed="rId6"/>
          <a:stretch/>
        </p:blipFill>
        <p:spPr>
          <a:xfrm>
            <a:off x="-103320" y="1981080"/>
            <a:ext cx="7991640" cy="1889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-108000" y="4843440"/>
            <a:ext cx="676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 Black"/>
                <a:cs typeface="Monotype Koufi"/>
              </a:rPr>
              <a:t>ساندي وائل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 Black"/>
                <a:cs typeface="Monotype Koufi"/>
              </a:rPr>
              <a:t>هانيا خالد                   سما حات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403280" y="3933720"/>
            <a:ext cx="352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ffffff"/>
                </a:solidFill>
                <a:uFillTx/>
                <a:latin typeface="Tahoma"/>
              </a:rPr>
              <a:t>اعداد الطالبات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SLOW MUSIC - 14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5"/>
          <p:cNvSpPr/>
          <p:nvPr/>
        </p:nvSpPr>
        <p:spPr>
          <a:xfrm>
            <a:off x="2050920" y="333360"/>
            <a:ext cx="6408720" cy="3382920"/>
          </a:xfrm>
          <a:prstGeom prst="cloudCallout">
            <a:avLst>
              <a:gd name="adj1" fmla="val -39175"/>
              <a:gd name="adj2" fmla="val 5309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كرتيني بالحرب الاهلية في عهد أبرا هام لنكولن علشان الغاء إلغاء الرق</a:t>
            </a:r>
            <a:r>
              <a:rPr b="1" lang="ar-EG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 المساواة بين البيض والسود</a:t>
            </a:r>
            <a:r>
              <a:rPr b="1" lang="ar-EG" sz="3200" spc="-1" strike="noStrike">
                <a:solidFill>
                  <a:srgbClr val="ffffff"/>
                </a:solidFill>
                <a:latin typeface="Tahoma"/>
              </a:rPr>
              <a:t> و الدستور الأمريكي ينص علي المساوا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2" name="Picture 6" descr="Picture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60640"/>
            <a:ext cx="5003640" cy="4797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images[57]"/>
          <p:cNvPicPr/>
          <p:nvPr/>
        </p:nvPicPr>
        <p:blipFill>
          <a:blip r:embed="rId3"/>
          <a:stretch/>
        </p:blipFill>
        <p:spPr>
          <a:xfrm>
            <a:off x="4067280" y="692280"/>
            <a:ext cx="2617560" cy="2881080"/>
          </a:xfrm>
          <a:prstGeom prst="rect">
            <a:avLst/>
          </a:prstGeom>
          <a:ln w="0">
            <a:noFill/>
          </a:ln>
        </p:spPr>
      </p:pic>
      <p:pic>
        <p:nvPicPr>
          <p:cNvPr id="344" name="SLOW MUSIC - Love Story 2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Picture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96720" y="620640"/>
            <a:ext cx="4032000" cy="53294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4d"/>
                </a:solidFill>
                <a:latin typeface="Tahoma"/>
              </a:rPr>
              <a:t>وبعد كده أصبحت القوة الأولي</a:t>
            </a:r>
            <a:br>
              <a:rPr sz="4400"/>
            </a:br>
            <a:r>
              <a:rPr b="1" lang="ar-SA" sz="4400" spc="-1" strike="noStrike">
                <a:solidFill>
                  <a:srgbClr val="00004d"/>
                </a:solidFill>
                <a:latin typeface="Tahoma"/>
              </a:rPr>
              <a:t> في العالم بسب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19280" y="1773360"/>
            <a:ext cx="5267160" cy="4897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Monotype Koufi"/>
              </a:rPr>
              <a:t>الموقع الجغرافي المتمي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  تنوع الأقاليم المناخية مما أدى إلي تنوع المحاصي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  أتساع مساحة الولايات المتحدة حيث تبلغ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9.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 مليون كم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  وفرة الموارد المائية وخصوبة التربة وتنوع موارد الإنتاج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Monotype Koufi"/>
              </a:rPr>
              <a:t>نشاط السكان وإبداعهم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Monotype Kouf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namerica_map1"/>
          <p:cNvPicPr/>
          <p:nvPr/>
        </p:nvPicPr>
        <p:blipFill>
          <a:blip r:embed="rId1"/>
          <a:stretch/>
        </p:blipFill>
        <p:spPr>
          <a:xfrm>
            <a:off x="46836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4930920" y="521496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محيط الاطلنط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788000" y="434988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محيط الهاد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5584680" y="378936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كند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5796000" y="60055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خليج المكسي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3274920" y="60055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مكسي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456000" y="5556240"/>
            <a:ext cx="56880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جنوب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--- </a:t>
            </a: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خليج المكسيك ودولة المكسيك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Oval 15"/>
          <p:cNvSpPr/>
          <p:nvPr/>
        </p:nvSpPr>
        <p:spPr>
          <a:xfrm>
            <a:off x="3276720" y="333360"/>
            <a:ext cx="3382920" cy="107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66"/>
                </a:solidFill>
                <a:uFillTx/>
                <a:latin typeface="Tahoma"/>
              </a:rPr>
              <a:t>الموق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5219640" y="1419120"/>
            <a:ext cx="345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Tahoma"/>
              </a:rPr>
              <a:t>الموقع الفلكي :-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 تمتد الولايات المتحدة بين دائرتي عرض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25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 ْ و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48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 ْ ش </a:t>
            </a:r>
            <a:r>
              <a:rPr b="0" lang="ar-EG" sz="2800" spc="-1" strike="noStrike">
                <a:solidFill>
                  <a:srgbClr val="ff0066"/>
                </a:solidFill>
                <a:latin typeface="Tahoma"/>
              </a:rPr>
              <a:t>آي تضم </a:t>
            </a:r>
            <a:r>
              <a:rPr b="0" lang="ar-EG" sz="2800" spc="-1" strike="noStrike">
                <a:solidFill>
                  <a:srgbClr val="ff0066"/>
                </a:solidFill>
                <a:latin typeface="Tahoma"/>
              </a:rPr>
              <a:t>23</a:t>
            </a:r>
            <a:r>
              <a:rPr b="0" lang="ar-EG" sz="2800" spc="-1" strike="noStrike">
                <a:solidFill>
                  <a:srgbClr val="ff0066"/>
                </a:solidFill>
                <a:latin typeface="Tahoma"/>
              </a:rPr>
              <a:t> دائر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Picture 17" descr="Picture2a"/>
          <p:cNvPicPr/>
          <p:nvPr/>
        </p:nvPicPr>
        <p:blipFill>
          <a:blip r:embed="rId2"/>
          <a:stretch/>
        </p:blipFill>
        <p:spPr>
          <a:xfrm>
            <a:off x="0" y="5560920"/>
            <a:ext cx="2519280" cy="1297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4357800" y="3213000"/>
            <a:ext cx="4535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66"/>
                </a:solidFill>
                <a:latin typeface="Tahoma"/>
              </a:rPr>
              <a:t>الحدو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شمال -------- كند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4932360" y="434988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غرب -------- المحيط الهاد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3924360" y="521496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شرق -------- المحيط الأطلنط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22222E-006 L -0.46128 -0.12176 E">
                                      <p:cBhvr>
                                        <p:cTn id="277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L -0.58663 -0.08796 E">
                                      <p:cBhvr>
                                        <p:cTn id="28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2523 L -0.16927 -0.22454 E">
                                      <p:cBhvr>
                                        <p:cTn id="295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1436 L -0.38194 -0.17199 E">
                                      <p:cBhvr>
                                        <p:cTn id="30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9" nodeType="afterEffect" fill="hold" presetClass="path" presetID="35" repeatCount="1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16667E-006 4.07407E-006 L -0.24011 -0.22454 E">
                                      <p:cBhvr>
                                        <p:cTn id="310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5616720" cy="395928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3"/>
          <p:cNvSpPr/>
          <p:nvPr/>
        </p:nvSpPr>
        <p:spPr>
          <a:xfrm rot="21469200">
            <a:off x="5221080" y="1341360"/>
            <a:ext cx="3887640" cy="1582920"/>
          </a:xfrm>
          <a:prstGeom prst="wedgeRoundRectCallout">
            <a:avLst>
              <a:gd name="adj1" fmla="val -78962"/>
              <a:gd name="adj2" fmla="val 101935"/>
              <a:gd name="adj3" fmla="val 16667"/>
            </a:avLst>
          </a:prstGeom>
          <a:solidFill>
            <a:srgbClr val="ff0066"/>
          </a:solidFill>
          <a:ln w="76320">
            <a:solidFill>
              <a:srgbClr val="66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 Black"/>
              </a:rPr>
              <a:t>ها نوصل امتي يا بابا نوي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2143080" y="3071880"/>
            <a:ext cx="3527640" cy="239688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3"/>
          <p:cNvSpPr/>
          <p:nvPr/>
        </p:nvSpPr>
        <p:spPr>
          <a:xfrm>
            <a:off x="2268360" y="1125360"/>
            <a:ext cx="6551640" cy="1366920"/>
          </a:xfrm>
          <a:prstGeom prst="cloudCallout">
            <a:avLst>
              <a:gd name="adj1" fmla="val -36365"/>
              <a:gd name="adj2" fmla="val 11150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ahoma"/>
                <a:cs typeface="Monotype Koufi"/>
              </a:rPr>
              <a:t>انا فين هو انا كنت بحل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ahoma"/>
                <a:cs typeface="Monotype Koufi"/>
              </a:rPr>
              <a:t>آه امتي اسافر اشوف باب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611280" y="907920"/>
            <a:ext cx="7848360" cy="49539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أهم المراجع و المواق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كتاب المدرس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http://ar.wikipedia.org/wiki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ttp://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ww.magharebia.com/cocoon/awi/xhtml1/ar/date/2005-06-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ttp://ecards.fares.net/ar/Around_The_World/United_Stat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428760" y="3286080"/>
            <a:ext cx="4000320" cy="328608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7"/>
          <p:cNvSpPr/>
          <p:nvPr/>
        </p:nvSpPr>
        <p:spPr>
          <a:xfrm>
            <a:off x="2268360" y="404640"/>
            <a:ext cx="6551640" cy="2592720"/>
          </a:xfrm>
          <a:prstGeom prst="cloudCallout">
            <a:avLst>
              <a:gd name="adj1" fmla="val -47018"/>
              <a:gd name="adj2" fmla="val 5955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042920" y="692280"/>
            <a:ext cx="65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 Black"/>
                <a:cs typeface="Monotype Koufi"/>
              </a:rPr>
              <a:t>وحشتني يا بابا من سا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 Black"/>
                <a:ea typeface="Monotype Koufi"/>
              </a:rPr>
              <a:t> ما سافرت الولايات المتحد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 Black"/>
                <a:ea typeface="Monotype Koufi"/>
              </a:rPr>
              <a:t> و انا نفسي اشوف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SLOW MUSIC - 15.mp3" descr=""/>
          <p:cNvPicPr/>
          <p:nvPr/>
        </p:nvPicPr>
        <p:blipFill>
          <a:blip r:embed="rId3"/>
          <a:stretch/>
        </p:blipFill>
        <p:spPr>
          <a:xfrm>
            <a:off x="5707080" y="3786120"/>
            <a:ext cx="222264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1332000" y="40464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66"/>
                </a:solidFill>
                <a:latin typeface="Tahoma"/>
                <a:cs typeface="Old Antic Decorative"/>
              </a:rPr>
              <a:t>و فجأة ظهر بابا نويل و قال</a:t>
            </a:r>
            <a:r>
              <a:rPr b="0" lang="ar-SA" sz="4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5" name="Picture 7" descr="Picture2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500280"/>
            <a:ext cx="2881440" cy="25308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9"/>
          <p:cNvSpPr/>
          <p:nvPr/>
        </p:nvSpPr>
        <p:spPr>
          <a:xfrm>
            <a:off x="4716360" y="2133720"/>
            <a:ext cx="2519640" cy="1439640"/>
          </a:xfrm>
          <a:prstGeom prst="wedgeRectCallout">
            <a:avLst>
              <a:gd name="adj1" fmla="val 32231"/>
              <a:gd name="adj2" fmla="val 81421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onotype Koufi"/>
              </a:rPr>
              <a:t>عشان عايزة اسافر اشوف باب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826920" y="2205000"/>
            <a:ext cx="3600720" cy="1511280"/>
          </a:xfrm>
          <a:prstGeom prst="cloudCallout">
            <a:avLst>
              <a:gd name="adj1" fmla="val 10624"/>
              <a:gd name="adj2" fmla="val 80356"/>
            </a:avLst>
          </a:prstGeom>
          <a:solidFill>
            <a:srgbClr val="b83d6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أنتي زعلانه لي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11" descr="untitled"/>
          <p:cNvPicPr/>
          <p:nvPr/>
        </p:nvPicPr>
        <p:blipFill>
          <a:blip r:embed="rId4"/>
          <a:stretch/>
        </p:blipFill>
        <p:spPr>
          <a:xfrm>
            <a:off x="6443640" y="357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19" name="SLOW MUSIC - 09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59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6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16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16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3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3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9" descr="Picture2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557360"/>
            <a:ext cx="3887640" cy="3732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j0424780"/>
          <p:cNvPicPr/>
          <p:nvPr/>
        </p:nvPicPr>
        <p:blipFill>
          <a:blip r:embed="rId4"/>
          <a:stretch/>
        </p:blipFill>
        <p:spPr>
          <a:xfrm>
            <a:off x="1619280" y="3490920"/>
            <a:ext cx="2808360" cy="26020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8"/>
          <p:cNvSpPr/>
          <p:nvPr/>
        </p:nvSpPr>
        <p:spPr>
          <a:xfrm>
            <a:off x="3286080" y="571680"/>
            <a:ext cx="5031000" cy="2357280"/>
          </a:xfrm>
          <a:prstGeom prst="cloudCallout">
            <a:avLst>
              <a:gd name="adj1" fmla="val -56287"/>
              <a:gd name="adj2" fmla="val 50662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4d"/>
                </a:solidFill>
                <a:latin typeface="Tahoma"/>
              </a:rPr>
              <a:t>ضحك و قال أنا جاي أخدك في رحلة لبابا يلا بينا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10" descr="Picture9"/>
          <p:cNvPicPr/>
          <p:nvPr/>
        </p:nvPicPr>
        <p:blipFill>
          <a:blip r:embed="rId6"/>
          <a:stretch/>
        </p:blipFill>
        <p:spPr>
          <a:xfrm>
            <a:off x="5580000" y="2781360"/>
            <a:ext cx="2521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5616720" cy="3959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4"/>
          <p:cNvSpPr/>
          <p:nvPr/>
        </p:nvSpPr>
        <p:spPr>
          <a:xfrm rot="21469200">
            <a:off x="5221080" y="1341360"/>
            <a:ext cx="3887640" cy="1582920"/>
          </a:xfrm>
          <a:prstGeom prst="wedgeRoundRectCallout">
            <a:avLst>
              <a:gd name="adj1" fmla="val -78962"/>
              <a:gd name="adj2" fmla="val 101935"/>
              <a:gd name="adj3" fmla="val 16667"/>
            </a:avLst>
          </a:prstGeom>
          <a:solidFill>
            <a:srgbClr val="ff0066"/>
          </a:solidFill>
          <a:ln w="76320">
            <a:solidFill>
              <a:srgbClr val="66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 Black"/>
              </a:rPr>
              <a:t>انت عارفه اتكونت ازاي الولايات المتحد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Hell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Picture2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276640"/>
            <a:ext cx="4249800" cy="338436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"/>
          <p:cNvSpPr/>
          <p:nvPr/>
        </p:nvSpPr>
        <p:spPr>
          <a:xfrm>
            <a:off x="4211640" y="981000"/>
            <a:ext cx="4032360" cy="1800360"/>
          </a:xfrm>
          <a:prstGeom prst="wedgeEllipseCallout">
            <a:avLst>
              <a:gd name="adj1" fmla="val 2675"/>
              <a:gd name="adj2" fmla="val 110138"/>
            </a:avLst>
          </a:prstGeom>
          <a:solidFill>
            <a:srgbClr val="33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</a:rPr>
              <a:t>ضحكت و هي بتقول طبعا انا خدتها في المدرس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468360" y="620640"/>
            <a:ext cx="4103640" cy="1224000"/>
          </a:xfrm>
          <a:prstGeom prst="cloudCallout">
            <a:avLst>
              <a:gd name="adj1" fmla="val 9731"/>
              <a:gd name="adj2" fmla="val 148574"/>
            </a:avLst>
          </a:prstGeom>
          <a:solidFill>
            <a:srgbClr val="33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00"/>
                </a:solidFill>
                <a:latin typeface="Tahoma"/>
              </a:rPr>
              <a:t>خلاص عرفين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0" name="Picture 10" descr="j0336896"/>
          <p:cNvPicPr/>
          <p:nvPr/>
        </p:nvPicPr>
        <p:blipFill>
          <a:blip r:embed="rId4"/>
          <a:stretch/>
        </p:blipFill>
        <p:spPr>
          <a:xfrm>
            <a:off x="5745240" y="3213000"/>
            <a:ext cx="2427120" cy="2686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j0233148"/>
          <p:cNvPicPr/>
          <p:nvPr/>
        </p:nvPicPr>
        <p:blipFill>
          <a:blip r:embed="rId1"/>
          <a:stretch/>
        </p:blipFill>
        <p:spPr>
          <a:xfrm>
            <a:off x="395280" y="1916280"/>
            <a:ext cx="2522520" cy="25765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6"/>
          <p:cNvSpPr/>
          <p:nvPr/>
        </p:nvSpPr>
        <p:spPr>
          <a:xfrm>
            <a:off x="468360" y="4797360"/>
            <a:ext cx="827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مت الحرب بين الأمريكيين وإنجلترا حين فرضت إنجلترا الضرائب والرسوم الجمركية و أعلنت الولايا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1835280" y="260280"/>
            <a:ext cx="6948360" cy="302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دفق الأوربيون إلي القارة الجديد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ي القرن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خاصة الإنجلي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قام الأوربيون المستعمرات في الشر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تى وصل عددها إلي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لا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ahoma"/>
              </a:rPr>
              <a:t>تتبع بريطاني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XFILE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3276720" y="765000"/>
            <a:ext cx="489564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قامت الحرب الأهلية لمدة خمس سنوات بين ولايات الشمال والجنوب بسبب تحرير الرقيق  وإلغاء العبودية حيث كانت ولايات الجنوب تعتمد على الزنوج و العبيد في الزراعة </a:t>
            </a:r>
            <a:r>
              <a:rPr b="1" lang="ar-EG" sz="32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أعلن أبرا هام لنكولن إلغاء الرق</a:t>
            </a:r>
            <a:r>
              <a:rPr b="1" lang="ar-EG" sz="32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 و المساواة بين البيض والسود</a:t>
            </a:r>
            <a:r>
              <a:rPr b="1" lang="ar-EG" sz="3200" spc="-1" strike="noStrike">
                <a:solidFill>
                  <a:srgbClr val="ffcc00"/>
                </a:solidFill>
                <a:latin typeface="Tahoma"/>
              </a:rPr>
              <a:t> و الدستور الأمريكي ينص علي المساوا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AutoShape 4"/>
          <p:cNvSpPr/>
          <p:nvPr/>
        </p:nvSpPr>
        <p:spPr>
          <a:xfrm>
            <a:off x="468360" y="765000"/>
            <a:ext cx="3095640" cy="1511640"/>
          </a:xfrm>
          <a:prstGeom prst="cloudCallout">
            <a:avLst>
              <a:gd name="adj1" fmla="val 14361"/>
              <a:gd name="adj2" fmla="val 14275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ahoma"/>
              </a:rPr>
              <a:t>انتي عارفة اول رئيس للولايات المتحد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643280" y="476280"/>
            <a:ext cx="3529080" cy="719280"/>
          </a:xfrm>
          <a:prstGeom prst="wedgeRoundRectCallout">
            <a:avLst>
              <a:gd name="adj1" fmla="val 17430"/>
              <a:gd name="adj2" fmla="val 267879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ahoma"/>
              </a:rPr>
              <a:t>طبعا جورج واشنط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Picture 6" descr="j0336896"/>
          <p:cNvPicPr/>
          <p:nvPr/>
        </p:nvPicPr>
        <p:blipFill>
          <a:blip r:embed="rId1"/>
          <a:stretch/>
        </p:blipFill>
        <p:spPr>
          <a:xfrm>
            <a:off x="6084720" y="3284640"/>
            <a:ext cx="2427480" cy="2685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Picture2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997360"/>
            <a:ext cx="4249800" cy="3384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492px-Portrait_of_George_Washington[1]"/>
          <p:cNvPicPr/>
          <p:nvPr/>
        </p:nvPicPr>
        <p:blipFill>
          <a:blip r:embed="rId4"/>
          <a:stretch/>
        </p:blipFill>
        <p:spPr>
          <a:xfrm>
            <a:off x="4067280" y="1773360"/>
            <a:ext cx="194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1:21:48Z</dcterms:created>
  <dc:creator>MOE</dc:creator>
  <dc:description/>
  <dc:language>en-US</dc:language>
  <cp:lastModifiedBy>MK</cp:lastModifiedBy>
  <dcterms:modified xsi:type="dcterms:W3CDTF">2007-09-23T21:50:10Z</dcterms:modified>
  <cp:revision>31</cp:revision>
  <dc:subject/>
  <dc:title>Slide 1</dc:title>
</cp:coreProperties>
</file>